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91E-1B6A-4B8C-96E4-B53FE0BF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0ED-2D57-4E5C-A057-2EDEE2F0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DAC-810A-4DA6-A0F9-9465AA97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312-FC6A-4149-BA65-9120EDE3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DFA3-B0E1-4DD1-BF1C-EBD8CD20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46B6-8676-4D75-B16B-2827D861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6A78-3438-468C-8769-70E921FB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F91C-CD55-4CAE-8470-C4EC70E4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6CB5-A390-476B-B897-0F98A3C0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86D4-869C-443A-8E35-CBBBC1CE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8EF0-FEB8-4FB4-BD87-6399445B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B2E-8ADE-4723-B586-1C16236B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3363-226F-4A10-9C8A-7AC9C2A8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4F49-6D35-4213-8E31-2C68CC32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3FD8-2518-4F7E-A4BD-012F083A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A561-BE0A-4724-AB5A-CDAA904C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41DF-3C0B-44E5-B8A4-46687236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89C7B-5D21-400A-8B98-7FFB6796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9BA92-087D-4AC6-84C3-60C244B7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A747-8287-4B37-8182-16EA300D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9BFAB-5086-42EF-8C6E-7F275A4B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96E6-3879-4C57-982F-AD7BC65C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6C2-2C02-47BA-965D-E9DB535E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B300-42AA-47A9-A436-76B1324E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91BD-9E96-4924-B79A-A26FB22A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F4031-F49A-48A5-A900-D334F039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D23D-4794-45F1-A406-A5129558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EF524-9FF2-4E4F-80E7-E8F6AC83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19B9-4CE9-4AF1-9F8F-0845320F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3A6FB-6740-4E3B-B008-506F12E0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4D45C-314E-4DF9-9952-DB36DA92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5875-C3A8-4AB7-9CEC-24D34FF1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50FD0-EE32-416C-AC6D-0634F0FC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545-DA7F-472B-A72E-1C32E86B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60830-D863-404D-B964-B696AC87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DC363-CF7F-4917-94F3-84CC5561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25F5E-DAE3-499E-9804-74254290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42C46-8665-4272-86AE-BDE97932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48F5-24CF-4BB4-B22D-32FD30F9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BFA2-7435-49A4-8FCA-42F9AB49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D2D5C-7E35-421C-8E5B-55B61164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FA197-CBEF-41FF-9F3E-B32F131F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FAA34-7F12-4994-B8FF-454F30DC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B152-4961-4BFF-A280-5FF300F1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D6D-C5FF-4234-867E-D7001671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89EBC-C6C7-4CB3-BCAA-0F7052C0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9B40A-4F2E-49F8-8B61-1C14410F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1EF0E-CBA1-47D7-97A6-2FC1F2FD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CDE4D-E1C6-4309-ABC8-2F824F46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428D7-2D1B-495F-B493-D961C389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0D6A9-9629-4A18-BBFA-53B974E0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F4184-60DA-402B-9D1B-F5C81369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24157-38C7-42CE-A44C-4536D6DB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45EC8-766F-49BE-9F30-C9375225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2C6F-FD34-4340-BB77-22A99188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BD6-5AE5-4936-A04C-6188D24C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1CCF6-878F-4D6D-8578-76468D32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194-CD73-4706-B94C-C950C183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BBE-6B74-4510-BF9B-97EF510C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71F-098A-41BD-AFD6-45DDD7C3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CEEF-0BC9-4E17-8A5E-F744860B033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CCE9-C83C-41FF-AF0F-63A5D3220D1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35C5-71BC-4AAF-AA73-881DDC62F5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4C83-F407-4D06-8795-F654519878C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FC00-CF3A-4ECA-886E-7D0581E32EF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ambria"/>
              </a:rPr>
              <a:t>проф. др Марина J. Кости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ганизација здравствених систе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 оквиру функционисања и управљања здравственим системима значајан сегмент заузима и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финансирање здравствених услуга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уз неопходност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адекватне алокације средстава како би се постигла рационална и квалитетна примена здравствене заштите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нцепт финансирања здравственог система јесте одређен карактеристикама региона у оквиру којег систем егзистира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Главни ресурси финансирања здравствених система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обухватају: средства из државног буџета (порези), средства из фонда осигурања које можебити обавезно (доприноси) или добровољно (приватно), партиципације (средства које осигураник издваја за пружене здравствене услуге), пуне цене услуга (трошкови лечења у условима приватне праксе), као и средства пореклом из донација и добровољних прилог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Здравље</a:t>
            </a:r>
            <a:br>
              <a:rPr sz="3200"/>
            </a:b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Детерминанте које одређују здрављ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O :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„Не само одсуство болести и оронулости, већ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као стање потпуног физичког, психичког и социјалног благостањ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„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пособност живљења у околностима који су одговарајући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индивидуалним и друштвеним циљевима појединц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“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96464"/>
                </a:solidFill>
                <a:latin typeface="Calibri"/>
              </a:rPr>
              <a:t>Детерминанте које одређују здрављ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Детерминанте политичке природе – здравствена политика, начин уређења, организације и финансирања здравственог система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Детерминанте економске природе – утицај глобалних и локалних економских фактор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Детерминанте из околине – степен чистоће воде, ваздуха, земљишта, хране... степен безбедности...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Културолшке детерминанте – ставови, вредности, уверења различитих заједница ..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96464"/>
                </a:solidFill>
                <a:latin typeface="Calibri"/>
              </a:rPr>
              <a:t>Детерминанте које одређују здрављ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оцијалне детерминанте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фактори друштвене и психолошке природе ..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Детерминанте проистекле из навик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Индивидуалне детерминанте – генетски фактори, старост, пол....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Здравље</a:t>
            </a:r>
            <a:br>
              <a:rPr sz="3200"/>
            </a:b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Детерминанте које одређују здрављ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Some 95% of the trillions of dollars the US spends on health care goes to direct medical services and just 5% to population-wide approaches to health improvement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Здравље</a:t>
            </a:r>
            <a:br>
              <a:rPr sz="3200"/>
            </a:b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Детерминанте које одређују здрављ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Генетске предоспозиције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30%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Друштвене околности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15%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Фактори околине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5%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тил живота и навике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40%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Медицинска нега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10%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Calibri"/>
              </a:rPr>
              <a:t>Здравље</a:t>
            </a:r>
            <a:br>
              <a:rPr sz="2800"/>
            </a:br>
            <a:r>
              <a:rPr b="0" lang="en-US" sz="2800" spc="-1" strike="noStrike">
                <a:solidFill>
                  <a:srgbClr val="696464"/>
                </a:solidFill>
                <a:latin typeface="Calibri"/>
              </a:rPr>
              <a:t>Детерминанте које одређују здрављ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Генетске предоспозиције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30%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Конзумирање цигарет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Конзумирање алкохол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Гојаз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мањена физичка активност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Неадекватна исхран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Calibri"/>
              </a:rPr>
              <a:t>Здравље</a:t>
            </a:r>
            <a:br>
              <a:rPr sz="2800"/>
            </a:br>
            <a:r>
              <a:rPr b="0" lang="en-US" sz="2800" spc="-1" strike="noStrike">
                <a:solidFill>
                  <a:srgbClr val="696464"/>
                </a:solidFill>
                <a:latin typeface="Calibri"/>
              </a:rPr>
              <a:t>Детерминанте које одређују здрављ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Дуговеч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тарење популације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abillity“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Депрес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Анксиоз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Мускулоскелетни поремећај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јам систем подразумева постојање целине коју чине елементи који међусобно интерагују како би се постигли циљеви у средини у којој систем егзистира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 оквиру друштвених система, елементи система су хијерархијски уређени са динамичком структуром која је последица сталне интеракције појединачних елемената система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дравствени систем треба посматрати као један од најсложенијих систем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549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дравствени систем се може посматрати као систем здравствене заштите са пацијентом у фокусу, при чему сви „улази“ и „излази“ као и медицинске услуге у оквиру овог система јесу усмерени деловањем на здравље људи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дравствени систем обухвата све чиниоце, како директне тако и индиректне, који могу утицати на здрављ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40464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куп свих организација, институција и ресурса посвећених и усмерених ка предузимању акција чија је основна сврха побољшање, очување или обнављање здравља људи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O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Ресурси: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финансијски, хумани и механичк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сновне функције здравственог система обухватају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роцесе управљања системом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ружање здравствених услуг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роцесе финансирања здравствених услуг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стварање ресурса у оквиру здравствених систем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Циљеви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нтермедијарни циљеви (доступност, обухват, квалитет и безбедност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пшти циљеви здравственог система (побољшање здравственог стања заједнице, унапређивање ефикасности здравственог система, заштиту становништва од различитих друштвених ризика као и повећање нивоа одговорности према здравственим потребама заједнице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авезни елементи структуре већине здравствених система (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O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есурс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рганизац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оступност здравствених услуг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кономска подршк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наџмент здравственог систем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 оквиру здравствених система концепт ресурса подразумева како хумане ресурсе тако и ресурсе у смислу постојања здравствених установа и здравствених технологиј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Хумане ресурсе чине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здравствени стручњаци различитих профила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ји су непосредно укључени у пружање здравствених услуга, али и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административно и техничко особље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како у домену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државног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тако и у домену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риватног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сектор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3427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лобална стратегија СЗО из 1997. године која се односи на здравствену политику обавезује остваривање здравствене заштите на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римарно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интермедијарно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(секундарном) и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централно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(терцијарном) нивоу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 оквиру система здравствене заштите сва три нивоа функционишу уз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висок степен повезаност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јединствену медицинску документацију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обезбеђивање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несметаног кретања пацијената кроз систе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а у складу са потребама и стално пружање подршке од стране виших нивоа нижим структурама систем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рганизација здравственог система треба да омогући не само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ертикалне конекције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станова сва три нивоа здравствене заштите, већ и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хоризонталне интеракције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ко у оквиру самог система тако и у односу на локалну заједницу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 организовању система здравствене заштите неопходно је обезбедити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оступност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здравствене заштите не само у физичком, већ и у географском и економском смислу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ужање здравствене заштите мора бити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 складу са актуелним Водичима добре клиничке праксе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и научним доктринама уз стално улагање система у унапређење посебно хуманих ресурса, а у циљу постизања квалитетне здравствене заштите на највишем могућем нивоу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 центру здравственог система налази се пацијент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6T09:56:33Z</dcterms:created>
  <dc:creator>Marina Kostic</dc:creator>
  <dc:description/>
  <dc:language>en-US</dc:language>
  <cp:lastModifiedBy>Marina Kostic</cp:lastModifiedBy>
  <dcterms:modified xsi:type="dcterms:W3CDTF">2023-08-29T11:22:28Z</dcterms:modified>
  <cp:revision>11</cp:revision>
  <dc:subject/>
  <dc:title>Oрганизација здравствених система</dc:title>
</cp:coreProperties>
</file>