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C03-2C78-4F15-9B2C-37F823F3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B43-E915-4CCD-AED9-A98950D6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999-F5A7-4EE9-91FC-5F76D901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F8B-EC24-4460-9102-9875FEF7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A47-AD46-41B5-A1FB-90E43CE6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668-AEC5-4B5D-A62F-E0FE473D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B2B-10DA-4614-B310-B1079CA4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451-C6A1-484F-85F3-D5E2D43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0A9-4560-4DB2-9757-E630CFF5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E5F-385B-4D9C-9201-DC2DF48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951-C6F7-4841-8BCC-EA86D74F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EC0-923C-40BA-82CD-EDEA625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134D-5C05-4C5D-B223-E978438871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води из историје фармације и фармакологиј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eb9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главном се бави интернистичк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олестима, а мањим делом и болестима ока, коже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инеколошким и неким хируршким обољењим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апсцеси, тумори, преломи, опекотине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држи опис кардиоваскуларног систем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миње се и дијабетес мелитус, филаријаз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антљичара, артрити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психијатријском делу описује депресиј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eea7"/>
              </a:gs>
              <a:gs pos="100000">
                <a:srgbClr val="ffffa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Еберсов папирус </a:t>
            </a:r>
            <a:br>
              <a:rPr sz="2400"/>
            </a:b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Универзитетски музеј у Лајпциг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b7"/>
              </a:gs>
              <a:gs pos="100000">
                <a:srgbClr val="ffefa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ахунов гинеколошки папирус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је настао у 19. веку п. н. е. и сматра се најстаријим египатским медицинским документом. Описује методе дијагностиковања трудноће и пола фетуса, гинеколошке болести и њихово лечењ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Херстов папирус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потиче из доба Тутмеса трећег (16. век п. н. е.). Њега су америчкој експедицији у Египту поклонили 1901. неки сељани. На 18 страна описује болести уринарног система, крви, косе и лечење уједа (хуманог, свињског, нилског коња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ffffb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Кахунов гинеколошки папирус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Универзитетски</a:t>
            </a:r>
            <a:r>
              <a:rPr b="1" lang="sr-CS" sz="2000" spc="-1" strike="noStrike">
                <a:solidFill>
                  <a:srgbClr val="7673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колеџ</a:t>
            </a:r>
            <a:r>
              <a:rPr b="1" lang="sr-CS" sz="2000" spc="-1" strike="noStrike">
                <a:solidFill>
                  <a:srgbClr val="7673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у Лондону)</a:t>
            </a:r>
            <a:r>
              <a:rPr b="1" lang="sr-CS" sz="2000" spc="-1" strike="noStrike">
                <a:solidFill>
                  <a:srgbClr val="7673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и Херстов папирус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Универзитетска</a:t>
            </a:r>
            <a:r>
              <a:rPr b="1" lang="sr-CS" sz="2000" spc="-1" strike="noStrike">
                <a:solidFill>
                  <a:srgbClr val="7673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библиотека у Калифорнији)</a:t>
            </a: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bb99"/>
              </a:gs>
              <a:gs pos="100000">
                <a:srgbClr val="ffb48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 се оцем традиционалне кинеск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ицине. Испитао је медицинско дејств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колико стотина биљака; велики број је и са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бао. Лечио је своје поданике и саветовао как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узгајају корисно биљ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 његово име се везује и откриће чаја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где у првом  веку н.е. сазнања Шен Нунга и његов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ледбеника добиће писану форму – Пен тсао чинг (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биљкам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), са описом 365 медицински активних супстанциј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мињу се опијум, конопља, рабарбара,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федра вулгарис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 huang)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ffad75"/>
              </a:gs>
              <a:gs pos="100000">
                <a:srgbClr val="ffb89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20000"/>
                </a:solidFill>
                <a:latin typeface="Times New Roman"/>
              </a:rPr>
              <a:t>Кинески цар Шен Нунг </a:t>
            </a:r>
            <a:br>
              <a:rPr sz="2400"/>
            </a:br>
            <a:r>
              <a:rPr b="0" lang="sr-CS" sz="2400" spc="-1" strike="noStrike">
                <a:solidFill>
                  <a:srgbClr val="c20000"/>
                </a:solidFill>
                <a:latin typeface="Times New Roman"/>
              </a:rPr>
              <a:t>(2700 година п. н. 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b38d"/>
              </a:gs>
              <a:gs pos="100000">
                <a:srgbClr val="ffa76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рајем 16. века, на темељима Шен Нунгов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скустава, обогаћена запажањима бројн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ледбеника, настала је Велика кинеск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пеј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52 књиге описује 1094 биљке и њихов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ицинска дејст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ac73"/>
              </a:gs>
              <a:gs pos="100000">
                <a:srgbClr val="ffb38d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c20000"/>
                </a:solidFill>
                <a:latin typeface="Times New Roman"/>
              </a:rPr>
              <a:t>Pen ts</a:t>
            </a:r>
            <a:r>
              <a:rPr b="1" lang="sr-Latn-CS" sz="2400" spc="-1" strike="noStrike">
                <a:solidFill>
                  <a:srgbClr val="c2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2400" spc="-1" strike="noStrike">
                <a:solidFill>
                  <a:srgbClr val="c20000"/>
                </a:solidFill>
                <a:latin typeface="Times New Roman"/>
              </a:rPr>
              <a:t>ao kang-mu </a:t>
            </a:r>
            <a:r>
              <a:rPr b="1" lang="sr-CS" sz="2400" spc="-1" strike="noStrike">
                <a:solidFill>
                  <a:srgbClr val="c20000"/>
                </a:solidFill>
                <a:latin typeface="Times New Roman"/>
              </a:rPr>
              <a:t>(Велика фармакопеја)</a:t>
            </a:r>
            <a:br>
              <a:rPr sz="2400"/>
            </a:br>
            <a:r>
              <a:rPr b="0" lang="sr-CS" sz="2400" spc="-1" strike="noStrike">
                <a:solidFill>
                  <a:srgbClr val="c20000"/>
                </a:solidFill>
                <a:latin typeface="Times New Roman"/>
              </a:rPr>
              <a:t>(16. 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d25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yurved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ре Инд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b7d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а старе Индије позната је под називом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Ayurveda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 санскриту: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ayur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живот 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veda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нање, наука). Претеч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 јој 4 индијске свете књиге, у којима се, поред осталог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писује и примена 67 биљака у медицинске сврхе (међу њ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 и ђумбир, цимет и сен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ва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Ayurved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медицинска енциклопедија, написана око 700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од. п. н. е., обухвата и око 500 медицински активних биља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Rauvolfia serpentin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извор алкалоида резерпи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антихипертензив), прво је нашла примену у старој Индиј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b3b3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РЕВНЕ ЦИВИЛИЗАЦИЈЕ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9e2877"/>
                </a:solidFill>
                <a:latin typeface="Times New Roman"/>
              </a:rPr>
              <a:t>СТАРА ИНД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тари Грци су веровали да је болест божиј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азна и за излечење се молили Аполону, бог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е (здравља). Мит каже да је полу-бо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Ескулап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Аполонов син, од оца на рођењ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био моћ да лечи; кад је одрастао, постао ј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ако вешт у хирургији и траварству да ј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спевао мртве да васкрсне. Помагале су м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ћери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Хигиј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заступала је здрав начи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живота) и Панацеа (“ лечи све” – лечећ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олести). Зевс се уплашио да ће људски р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чинити бесмртним и убио га гром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ђутим, Хомер помиње Ескулапа ка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врсног лекара - хероја који је на бојн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љу показивао завидну умешност у лечењ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вређених. Касније је створен култ и у час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скулапу су подигнути бројни храмови, кој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 служили и за молитву и као лечилиш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d1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Стара Гр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d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скулап је често приказиван са грубо истесаним чемпресовим штапом у руци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ко кога се увила змија. Штап представља снагу и постојаност вере лекара у бога или етику, док змија истовремено симболизује Ескулапову дубоку религиозност и мудрост засновану на великом знању и опрезним поступцима у лечењ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Стара Гр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тарогрчки лекар Хипократ, отац модерне медицин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 разлику од својих претходника верује да боле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мају своје природне узроке и да су последица дисбаланс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етири телесне течности (жуте жучи, црне жучи, крви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легме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једно са својим следбеницима користио је око 35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иљака у медицинске сврхе (у “Хипократовим списима”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мињу се нана, рузмарин, тимијан, анис, каранфилић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ичак, цимет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d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Хипократ (460-377. год. пре н.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"/>
          <p:cNvGrpSpPr/>
          <p:nvPr/>
        </p:nvGrpSpPr>
        <p:grpSpPr>
          <a:xfrm>
            <a:off x="2286000" y="1749600"/>
            <a:ext cx="5303880" cy="360"/>
            <a:chOff x="2286000" y="1749600"/>
            <a:chExt cx="5303880" cy="360"/>
          </a:xfrm>
        </p:grpSpPr>
        <p:grpSp>
          <p:nvGrpSpPr>
            <p:cNvPr id="91" name="Group 8"/>
            <p:cNvGrpSpPr/>
            <p:nvPr/>
          </p:nvGrpSpPr>
          <p:grpSpPr>
            <a:xfrm>
              <a:off x="2286000" y="1749600"/>
              <a:ext cx="5303880" cy="360"/>
              <a:chOff x="2286000" y="1749600"/>
              <a:chExt cx="5303880" cy="360"/>
            </a:xfrm>
          </p:grpSpPr>
          <p:sp>
            <p:nvSpPr>
              <p:cNvPr id="92" name="Rectangle 5"/>
              <p:cNvSpPr/>
              <p:nvPr/>
            </p:nvSpPr>
            <p:spPr>
              <a:xfrm>
                <a:off x="2286000" y="174960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7"/>
              <p:cNvSpPr/>
              <p:nvPr/>
            </p:nvSpPr>
            <p:spPr>
              <a:xfrm>
                <a:off x="2286000" y="174960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Rectangle 9"/>
            <p:cNvSpPr/>
            <p:nvPr/>
          </p:nvSpPr>
          <p:spPr>
            <a:xfrm>
              <a:off x="2286000" y="1749600"/>
              <a:ext cx="5303880" cy="360"/>
            </a:xfrm>
            <a:prstGeom prst="rect">
              <a:avLst/>
            </a:pr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Стара Гр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Terra sigillat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ечатна земља – вероватно први “регистровани” лек  (500 год. пре н.е.), глинене таблете пореклом са грчког острва  Лемноса. Одређеног дана сваке године, од опране, пречишћене глине су обликоване таблете и предаване свештеницима да утисну свој печа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тим су сушене на сунцу и продаване. Веровало се да помажу код тровања, па чак и змијског ује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9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Theophrastus (372 – 287.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 год. пре н.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d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еофрастус, грчки филозоф, Аристотелов ђак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 се оцем ботанике. У свом делу “Историј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иљака” у 9 поглавља описује око 500 биљак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з класификацију, распрострањеност, раст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згајањ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евето поглавље је посвећено употреби биља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медицини. Око 40 наведених биљака се још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нас користи у медицинске сврх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иоклесов Ризотомикон,  два века старији 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терије медике, нажало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није сачува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27279b"/>
                </a:solidFill>
                <a:latin typeface="Times New Roman"/>
              </a:rPr>
              <a:t>ПРАИСТОР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праисторији је људима руководио инстинкт;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чили су и посматрајући животињ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 стицањем искустава о токсичном дејств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ких биљака на животиње и људе развила с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мпиријска токсикологиј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мпиријска терапиј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је настала са примен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вих “лекова”: хладне воде, лишћа нек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иљака, блата, муља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0"/>
          <p:cNvGrpSpPr/>
          <p:nvPr/>
        </p:nvGrpSpPr>
        <p:grpSpPr>
          <a:xfrm>
            <a:off x="2286000" y="1874880"/>
            <a:ext cx="5303880" cy="360"/>
            <a:chOff x="2286000" y="1874880"/>
            <a:chExt cx="5303880" cy="360"/>
          </a:xfrm>
        </p:grpSpPr>
        <p:grpSp>
          <p:nvGrpSpPr>
            <p:cNvPr id="46" name="Group 8"/>
            <p:cNvGrpSpPr/>
            <p:nvPr/>
          </p:nvGrpSpPr>
          <p:grpSpPr>
            <a:xfrm>
              <a:off x="2286000" y="1874880"/>
              <a:ext cx="5303880" cy="360"/>
              <a:chOff x="2286000" y="1874880"/>
              <a:chExt cx="5303880" cy="360"/>
            </a:xfrm>
          </p:grpSpPr>
          <p:sp>
            <p:nvSpPr>
              <p:cNvPr id="47" name="Rectangle 5"/>
              <p:cNvSpPr/>
              <p:nvPr/>
            </p:nvSpPr>
            <p:spPr>
              <a:xfrm>
                <a:off x="2286000" y="187488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Rectangle 7"/>
              <p:cNvSpPr/>
              <p:nvPr/>
            </p:nvSpPr>
            <p:spPr>
              <a:xfrm>
                <a:off x="2286000" y="187488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Rectangle 9"/>
            <p:cNvSpPr/>
            <p:nvPr/>
          </p:nvSpPr>
          <p:spPr>
            <a:xfrm>
              <a:off x="2286000" y="1874880"/>
              <a:ext cx="5303880" cy="360"/>
            </a:xfrm>
            <a:prstGeom prst="rect">
              <a:avLst/>
            </a:pr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иоскоридес Педаниус, рођен у Аназарбосу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лизу Тарзуса (сада Турска), грчки лекар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лог и ботаничар, живео је у доба Неро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утовао је са римским легијама као хирург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купљао и проучавао биљке широм Грчке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талије, Француске и Мале Азиј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ворац је претече модерне фармакопеје, дел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чуваног у латинском преводу 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e Materia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edica)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, које ће током 16 векова бити водећ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лошки и ботанички документ у Грчкој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иму и арапским земљам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9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Диоскоридес Педаниус</a:t>
            </a: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40 – 90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d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teriu  Medicu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је чинило 5 књига, у којима је детаљ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исано око 600 лековитих супстанција  биљног порекл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90 минералног и 30 анималног порек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вака биљка је представљена цртежом, описом, наведе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у њена лековита својства, начин припреме лековит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терије и упозорење о нежељеним (токсичним) дејствима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иоскоридес биљке дели на ароматичне, медицинск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рисне и хранљив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De Materia Medica (77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78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ва књига садржи 517 рецепата од лековитих материј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иљног порек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руга 142 материје животињског порекла (укључујућ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, млеко, масти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трећој књизи су описане ароматичне материје биљн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рек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четвртој се разматрају материје пореклом од дрвећ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описано 69 врст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ета књига “Вина, минерали и сличне материје” опису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винову лозу и вина, воду, минералне и разне неорганск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терије. Садржи 200 леко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600200"/>
          </a:xfrm>
          <a:prstGeom prst="rect">
            <a:avLst/>
          </a:prstGeom>
          <a:gradFill rotWithShape="0">
            <a:gsLst>
              <a:gs pos="0">
                <a:srgbClr val="d1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De Materia Medica (77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78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d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ноге од описаних биљака се и данас користе 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ицинске сврхе (нпр. кора жалосне врбе –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теча аспирин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руге више нису у употреби. Пример је биљк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ilphium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, из фамили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Ferula,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налик на огромн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ирођију. Жене старе Грчке и Рима су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ристиле као ефикасан контрацепти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d1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De Materia Medica (77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78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f9a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 Митридата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132 – 63. г. п. н. е.), краља Понта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љутог непријатеља Римског царства, везују се два ми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ви говори да је имао изванредну меморију, говорио 25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зика и знао име сваког војника у својим армијам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руги, да је био прави “уметник” у тровању, али и вешт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ревенцији и лечењу тровања. У сталном страху да ћ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999999"/>
                </a:solidFill>
                <a:latin typeface="Verdana"/>
                <a:ea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ити отрован, штитио се узимајући растуће сублеталн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зе познатих отрова, све док није био у стању д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днесе леталне дозе (поступак познат ка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митридатизам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). Међутим, када је, најзад, поражен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кушао је самоубиство тровањем; отров није деловао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а се бацио на свој мач. Универзални антидот код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ровања, коришћен више од 1000 година, по њему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осио назив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митридат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a3e1a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РЕВНЕ ЦИВИЛИЗАЦИЈЕ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944a"/>
                </a:solidFill>
                <a:latin typeface="Times New Roman"/>
              </a:rPr>
              <a:t>ПО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062"/>
          <p:cNvGrpSpPr/>
          <p:nvPr/>
        </p:nvGrpSpPr>
        <p:grpSpPr>
          <a:xfrm>
            <a:off x="2286000" y="1714680"/>
            <a:ext cx="5303880" cy="360"/>
            <a:chOff x="2286000" y="1714680"/>
            <a:chExt cx="5303880" cy="360"/>
          </a:xfrm>
        </p:grpSpPr>
        <p:grpSp>
          <p:nvGrpSpPr>
            <p:cNvPr id="111" name="Group 2060"/>
            <p:cNvGrpSpPr/>
            <p:nvPr/>
          </p:nvGrpSpPr>
          <p:grpSpPr>
            <a:xfrm>
              <a:off x="2286000" y="1714680"/>
              <a:ext cx="5303880" cy="360"/>
              <a:chOff x="2286000" y="1714680"/>
              <a:chExt cx="5303880" cy="360"/>
            </a:xfrm>
          </p:grpSpPr>
          <p:sp>
            <p:nvSpPr>
              <p:cNvPr id="112" name="Rectangle 2057"/>
              <p:cNvSpPr/>
              <p:nvPr/>
            </p:nvSpPr>
            <p:spPr>
              <a:xfrm>
                <a:off x="2286000" y="171468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2059"/>
              <p:cNvSpPr/>
              <p:nvPr/>
            </p:nvSpPr>
            <p:spPr>
              <a:xfrm>
                <a:off x="2286000" y="171468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Rectangle 2061"/>
            <p:cNvSpPr/>
            <p:nvPr/>
          </p:nvSpPr>
          <p:spPr>
            <a:xfrm>
              <a:off x="2286000" y="1714680"/>
              <a:ext cx="5303880" cy="360"/>
            </a:xfrm>
            <a:prstGeom prst="rect">
              <a:avLst/>
            </a:pr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e1a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Чувени грчки лекар и научник, студије медицине започео 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7. години, стичући знања и вештине широм Грчке, Мале Азиј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Палести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лаву стиче лечећи повређене гладијаторе и постаје лични лекар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имског цара Марка Аурелија и његовог с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медицину уводи појам експеримента. Први експерименталн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физиолог, проучавао је мишиће, кичмену мождину, срце и уринарн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ист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водио је вивисекције и дисекције на мајмунима, свињама и псим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ао је допринос развоју анатомије (установио да се у артеријам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лази крв, а не ваздух, како се до тада мислило). Веровао је да с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рце састоји од две ком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afe5a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44a"/>
                </a:solidFill>
                <a:latin typeface="Times New Roman"/>
              </a:rPr>
              <a:t>Клаудијус Гален, Гален од Пергамума (131-201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de9bd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казао је на значај познавања пулса у дијагностици боле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сим тога, имао је и сопствену апотеку у којој је справљао лековит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епарате за бројне болести, мешајући биљне и животињске састојк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још је у употреби назив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галенски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). Написао је виш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њига о биљној медицини.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матрао је да болести треба лечит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иљкама које имају супротна дејства од симптома болести (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contraria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contrariis curantur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Његов хладни крем је остао прототип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вих данашњих кремова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ворац је 500 књига из области филозофије, филологије и медицине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83 медицинске књиге су сачуван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аленов рад је обележио медицину Европе и Средње Азије наредних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5 векова. Док су његове теорије прерасле у догму, идеја 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псервацији и експерименталном раду била је занемаривана све д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јаве Везалијуса (16. век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752480"/>
          </a:xfrm>
          <a:prstGeom prst="rect">
            <a:avLst/>
          </a:prstGeom>
          <a:gradFill rotWithShape="0">
            <a:gsLst>
              <a:gs pos="0">
                <a:srgbClr val="bae8b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44a"/>
                </a:solidFill>
                <a:latin typeface="Times New Roman"/>
              </a:rPr>
              <a:t>Клаудијус Гален, Гален од Пергамума (131-201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д 5. до 12. века медицинска знања Запада су чувана у манастирима. Медицинске књиге су превођене, преписиване и чуване у манастирским библиотекама. Од лековитих трава које су сакупљали по околини или гајили у манастирским вртовима, монаси су справљали лекове за болесне и повређе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gradFill rotWithShape="0">
            <a:gsLst>
              <a:gs pos="0">
                <a:srgbClr val="bebe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РЕДЊИ  ВЕ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e1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рански лекар, рођен у Бухари, најпознатији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јутицајнији филозоф и научник исламског све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узетно надарен, већ са 10 година знао је Куран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већину арапске поезије напам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тудије медицине започиње у 13. години, а лекарск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аксу у 16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сим медицине изучава логику, исламске закон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тафизику. Врло брзо превазилази своје учитељ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спешно лечи принца династије Саманид и врата богат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раљевске библиотеке се пред њим отварај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efe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bn Sin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(Авицена) (980 – 1037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d9d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УСЛИМАНСКИ  СВ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7400e8"/>
                </a:solidFill>
                <a:latin typeface="Times New Roman"/>
              </a:rPr>
              <a:t>Ibn Sina </a:t>
            </a:r>
            <a:r>
              <a:rPr b="1" lang="sr-CS" sz="2400" spc="-1" strike="noStrike">
                <a:solidFill>
                  <a:srgbClr val="7400e8"/>
                </a:solidFill>
                <a:latin typeface="Times New Roman"/>
              </a:rPr>
              <a:t>(Авицена) (980 – 1037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e5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мрт оца и пад династије Саманид значе прекретницу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виценином животу. Почиње доба несигурности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лутања, које ће, осим краћих мирних периода, трајат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ве до његове смр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отрази за миром и материјалном подршком, ради ка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ворски лекар и администратор  у Хамадану. Ноћ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оводи у филозофским и научним дискусијама с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војим студентим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ада започиње своја два велика дела.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Kitab ash-shifa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Књига о лечењу) је најобимније дело написано од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тране једног писца у историји човечанства. Филозофск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научна енциклопедија, садржи знања из логик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сихологије, геометрије, астрономије, аритметик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узике, метафизик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7400e8"/>
                </a:solidFill>
                <a:latin typeface="Times New Roman"/>
              </a:rPr>
              <a:t>Ibn Sina </a:t>
            </a:r>
            <a:r>
              <a:rPr b="1" lang="sr-CS" sz="2400" spc="-1" strike="noStrike">
                <a:solidFill>
                  <a:srgbClr val="7400e8"/>
                </a:solidFill>
                <a:latin typeface="Times New Roman"/>
              </a:rPr>
              <a:t>(Авицена) (980 – 1037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РЕВНЕ ЦИВИЛИЗАЦИЈЕ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7e2a00"/>
                </a:solidFill>
                <a:latin typeface="Times New Roman"/>
              </a:rPr>
              <a:t>МЕСОПОТА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јстарији медицински записи (око 2500 година п. н. е.) потичу из Месопотамије. Писани су клинастим писмом на глиненим таблицама.Осим описа болести, рецепата и упутстава за справљање лековитих препарата, садрже  ритуале и молитве боговима. У то време лекар је морао бити свештен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2286000" y="1731960"/>
            <a:ext cx="5303880" cy="360"/>
            <a:chOff x="2286000" y="1731960"/>
            <a:chExt cx="5303880" cy="360"/>
          </a:xfrm>
        </p:grpSpPr>
        <p:grpSp>
          <p:nvGrpSpPr>
            <p:cNvPr id="53" name="Group 8"/>
            <p:cNvGrpSpPr/>
            <p:nvPr/>
          </p:nvGrpSpPr>
          <p:grpSpPr>
            <a:xfrm>
              <a:off x="2286000" y="1731960"/>
              <a:ext cx="5303880" cy="360"/>
              <a:chOff x="2286000" y="1731960"/>
              <a:chExt cx="5303880" cy="36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2286000" y="173196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2286000" y="173196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2286000" y="1731960"/>
              <a:ext cx="5303880" cy="360"/>
            </a:xfrm>
            <a:prstGeom prst="rect">
              <a:avLst/>
            </a:pr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Al Quanon fi Tibb (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Медицински канон)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најпознатиј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њига у историји медицине, медицинска енциклопедиј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ет књига, сакупљено знање из целог света (Стар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рчке и Римског царства, арапских земаља, старе Инди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Кине); мањи део чине и Авиценина властита искуств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током неизбежних путовања белешке су му се губиле...)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Медицинском канону описује преко 800 биљних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пстанција и њихова деј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следње године живота провешће на трећем двору,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сфахану, где је и завршио своја два огромна ра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атећи владара у ратном походу, заразио се и умро од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еке цревне инфекциј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12. веку и Књига лечења и Медицински канон с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еведени на латински. Медицински канон биће водећ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ска књига не само исламског света већ и  н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паду током више векова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7400e8"/>
                </a:solidFill>
                <a:latin typeface="Times New Roman"/>
              </a:rPr>
              <a:t>Ibn Sina </a:t>
            </a:r>
            <a:r>
              <a:rPr b="1" lang="sr-CS" sz="2400" spc="-1" strike="noStrike">
                <a:solidFill>
                  <a:srgbClr val="7400e8"/>
                </a:solidFill>
                <a:latin typeface="Times New Roman"/>
              </a:rPr>
              <a:t>(Авицена) (980 – 1037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0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четак ренесансе у раном 15. веку донео је процват науке у цели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Европи су осниване установе за медицинско образовање, а од студента се тражило да познају лековито биљ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деја  о званичној фармакопеји потекла је из Фиренце.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Nuovo Receptario Composito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писана на италијанском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убликована је 1498. Написао ју је лекарско-апотекарск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цех, под руководством тадашњег политичког лидера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Фиренци – доминиканског свештеника Савонаро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азирана је на грчко-арапским знањима о лековима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дата је са наменом да обезбеди униформност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потекарској пракси и да буде приступачна џепна књиг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 свакодневну употребу. 1518. је преведена на латинск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постала доступна целом Запад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рвом делу су наведене разне лековите супстанце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путства за припрему лекова. Затим следи део с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сцрпним објашњењима о изради пилула, сирупа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ругих облика леков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eed4e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ЕНЕСАН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acef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Швајцарски лекар, хемичар и реформато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четна знања добија од оца (лекара); путујући п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вропи, Египту и Средњој Азији сакупља народн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лекове. Посећује  бројне медицинске факултете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ади и као војни хирур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ао професор медицине кратко је радио у Базелу. Тада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јавно спалио у то време најауторитативниј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ски уџбеник – Авиценин Медицински кано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псеудоним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Paracelsus (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над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Celsus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познатог лекара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имском царству) узима како би изразио свој презир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ема тадашњим  лекарима и научницим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дбацио је застарело веровање о значају 4 телесн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ечности и сматрао да су болести узроковане спољним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чиниоцим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d8f3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ophrastus Bombastus von Hohenheim – Paracelsus (1493-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eed4e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ЕНЕСАН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79ff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ff79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79ff"/>
                </a:solidFill>
                <a:latin typeface="Times New Roman"/>
              </a:rPr>
              <a:t>ophrastus Bombastus von Hohenheim – Paracelsus (1493-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def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гласио  је улогу хемије у медици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ипремао је и користио нове лекове неорганск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рекла, укључујући једињења живе, сумпор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вожђа, бакра... У до тада најбољем клиничк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ису сифилиса истакао је да се исти мож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ечити пажљиво дозираним једињењима живе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ступао је пажљиву опсервацију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кспериментални рад у медицини, створивш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нове за модерну фармакологиј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учавао је природни процес оздрављења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стицао да се ране морају дренира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хватио је да се болести могу превенират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носом у организам малих доза изазивач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cdcf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ff79ff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ff79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79ff"/>
                </a:solidFill>
                <a:latin typeface="Times New Roman"/>
              </a:rPr>
              <a:t>ophrastus Bombastus von Hohenheim – Paracelsus (1493-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def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лопатиј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allos –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различит,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pathi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– патња) и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хомеопатиј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хомео – сличан) су два различита система лечења у 18. и 19. век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лопатијом су се у то време називали конвенционални медицински приступи, симптоматско лечење, које је укључивало и пуштање крви, примену токсичних материја (арсен, жива..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омеопатија је рођена 1796., ка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је и публикован рад немачког лекара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Samuela Hahnemanna “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сеј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новим принципима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 разлику од алопатије, хомеопатија се заснива на тврдњи: “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Similia similibus curantur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”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ј. болести треба лечити оним лековима који код здравих особа изазивају симптоме сличне симптомима саме болести. На ту идеју ј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Hahnemann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дошао када је на себи испробао дејство кинина и утврдио да су ефекти слични симптомима код маларије. С друге стране, сваки симптом изазван токсичном дозом неке супстанције код здравих особа се може отклонити леком припремљеним од ње саме (тзв. потенцијацијом, тј. сукцесивним разблаживањем). За пример су узиман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змијски отр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руга два темеља хомеопатије су: Теорија бескрајно малих доза (што се суспстанција више разблажује то је потентнија)  и Теорија “псора” (према Ханеману 80% хроничних болести је последица потиснутог незадовољств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fed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ca00ca"/>
                </a:solidFill>
                <a:latin typeface="Times New Roman"/>
              </a:rPr>
              <a:t>Алопатија и хомеопатиј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(18. и 19. 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ријак, најзначајнији лек и антидот током 17 век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ма легенди, теријак је први справио Митридат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, краљ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нта. Рецепт је стигао у Рим, где га је Андромах, Неронов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ични лекар, усавршио. По том рецепту справљаће се ток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7 веко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еријак је био лепљива смеса више од 60 састојака; неки од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њих били су веома скупи. Између осталих, садржао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ијум и месо змија отровница. Имао је широку примену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да је првенствено био намењен за лечење уједа отровн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животиња и куг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 справљања, лекари су морали да провере све састој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dee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свом делу “Органон” детаљно излаже концепт и пракс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хомеопатског приступа. Признање стич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спешн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ечење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живелих после Наполеоновог напада н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ајпциг и оболелих у епидемији тифуса која је зат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ступила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821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зда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teriu Medicu Puru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аталог лекова који с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шли прецизирано хомеопатско испитивање. За свак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ек су детаљно описани симтоми које је изазвао на здрав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обровољцима (20 добровољаца је лек узимало 6 недеља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ваки је водио дневник записујући све промене, укључујућ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 емоционалне), уз препоруку да се лек узима у растућ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азблажењима. Сматрао је да и у тако велик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азблажењима, где се практично губи лековита супстанциј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ек делује као енергетска сила која помаже организму д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ново успостави равнотежно стањ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fedee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ca00ca"/>
                </a:solidFill>
                <a:latin typeface="Times New Roman"/>
              </a:rPr>
              <a:t>Samuel Hahneman</a:t>
            </a:r>
            <a:r>
              <a:rPr b="1" lang="sr-CS" sz="2400" spc="-1" strike="noStrike">
                <a:solidFill>
                  <a:srgbClr val="ca00ca"/>
                </a:solidFill>
                <a:latin typeface="Times New Roman"/>
              </a:rPr>
              <a:t> (1</a:t>
            </a:r>
            <a:r>
              <a:rPr b="1" lang="sr-Latn-CS" sz="2400" spc="-1" strike="noStrike">
                <a:solidFill>
                  <a:srgbClr val="ca00ca"/>
                </a:solidFill>
                <a:latin typeface="Times New Roman"/>
              </a:rPr>
              <a:t>755</a:t>
            </a:r>
            <a:r>
              <a:rPr b="1" lang="sr-CS" sz="2400" spc="-1" strike="noStrike">
                <a:solidFill>
                  <a:srgbClr val="ca00c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ca00ca"/>
                </a:solidFill>
                <a:latin typeface="Times New Roman"/>
              </a:rPr>
              <a:t>– 1843</a:t>
            </a:r>
            <a:r>
              <a:rPr b="1" lang="sr-CS" sz="2400" spc="-1" strike="noStrike">
                <a:solidFill>
                  <a:srgbClr val="ca00c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ранцуски лекар, физиолог и анатом, оснивач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ксперименталне физологије у Француској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 се идејним творцем експерименталн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логиј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ин лекара, васпитаван по Русоовом педагошком рецепт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акценат је на развоју независне личности), у 10. годин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ије знао да чита и пише, па се на сопствени захтев уписао 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новну школу. Његова изузетна радозналост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нтелигенција ускоро долазе до изражаја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четком 19. века у серији експеримената на животињам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учава дејства новооткривених алкалоида: стрихнин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орфина, бруцина, кодеина, кинина и верат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gency FB"/>
              </a:rPr>
              <a:t>„</a:t>
            </a:r>
            <a:r>
              <a:rPr b="1" lang="sr-CS" sz="1400" spc="-1" strike="noStrike">
                <a:solidFill>
                  <a:srgbClr val="000000"/>
                </a:solidFill>
                <a:latin typeface="Agency FB"/>
              </a:rPr>
              <a:t>На чињеницама и само на чињеницама се наука заснива</a:t>
            </a:r>
            <a:r>
              <a:rPr b="1" lang="en-GB" sz="1400" spc="-1" strike="noStrike">
                <a:solidFill>
                  <a:srgbClr val="000000"/>
                </a:solidFill>
                <a:latin typeface="Agency FB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eef9c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Франсоа Маженди (1</a:t>
            </a:r>
            <a:r>
              <a:rPr b="1" lang="sr-Latn-CS" sz="2400" spc="-1" strike="noStrike">
                <a:solidFill>
                  <a:srgbClr val="699d1d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699d1d"/>
                </a:solidFill>
                <a:latin typeface="Times New Roman"/>
              </a:rPr>
              <a:t>83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699d1d"/>
                </a:solidFill>
                <a:latin typeface="Times New Roman"/>
              </a:rPr>
              <a:t>– 18</a:t>
            </a:r>
            <a:r>
              <a:rPr b="1" lang="en-US" sz="2400" spc="-1" strike="noStrike">
                <a:solidFill>
                  <a:srgbClr val="699d1d"/>
                </a:solidFill>
                <a:latin typeface="Times New Roman"/>
              </a:rPr>
              <a:t>55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својим раним експерименталним радовима, упоређујући дејств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упстанци различитог ботаничког порекл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Strycnhos tieute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узавица са Јаве, садржи алкалоид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upas tieute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ји се користи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 израду отровних стрелица)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 Nux vomica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trychnos Ignatii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) открив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различите биљне дроге могу имати исти активни принцип и да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н одговоран за лековито или токсично дејство природних лекова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17. заједно с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.J. Pelletir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м открива еметин, активни принцип ипекакуа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19. ћ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.J. Pelletir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, захваљујући и Мажендијеовом раду, изоловати стрихни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22. потврђује рад шкотског физиолога Чарлса Бела и тако настај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ел-Мажендијев закон (предњи коренови спиналних нерава садрж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мо моторна а задњи само сензитивна влакн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анатомији је средњи отвор на крову 4. мождане коморе назван по њему 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foramen Magendi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gendie-Hertwig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ов синдром је коса девијација очних јабучица удружена са церебралном лезиј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is Magendi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(1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– 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eef9c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                  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Франсоа Маженди (1</a:t>
            </a:r>
            <a:r>
              <a:rPr b="1" lang="sr-Latn-CS" sz="2400" spc="-1" strike="noStrike">
                <a:solidFill>
                  <a:srgbClr val="699d1d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699d1d"/>
                </a:solidFill>
                <a:latin typeface="Times New Roman"/>
              </a:rPr>
              <a:t>83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699d1d"/>
                </a:solidFill>
                <a:latin typeface="Times New Roman"/>
              </a:rPr>
              <a:t>– 18</a:t>
            </a:r>
            <a:r>
              <a:rPr b="1" lang="en-US" sz="2400" spc="-1" strike="noStrike">
                <a:solidFill>
                  <a:srgbClr val="699d1d"/>
                </a:solidFill>
                <a:latin typeface="Times New Roman"/>
              </a:rPr>
              <a:t>55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3c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 се да се фармакологија издвојила као засебна наук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18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године, када 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udolf Buchhei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фесор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teria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edica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ијететике и историје медицине на Медицинско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култету универзитета у Дорпату (садашња Естонија, тада руск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алтичка провинција) сопственим средствима, у приземљу своје куће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новао прву лабораторију за експерименталну фармакологиј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зив је одражавао његово убеђење да се фармакологија не своди сам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 материју медику и да је потребно да, кроз експериментални рад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учава дејства лекова и њихову примен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49. је наименован за професора фармакологије а 1860. у Дорпат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нива и први фармаколошки институ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учавао је дејства алкохола, хлороформа, магнезијум сулфата, беладоне, тешких метала...Заједно са својим сарадницима објавио је око 80 радо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о је да је испитивање лекова задатак фармаколога а не хемичара и фармацеу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вео је на немачки приручник из фармакологије 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onathan Pereira: The Elements of Materia Medica and Therapeutics)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 унео новине у каласификацију лекова према фармаколошким дејствим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валд Шмидеберг је био његов учен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ddd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fee2e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Rudolf Richard Buchheim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 (18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20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– 18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7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9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ffd4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линена таблица из Месопотамије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Универзитетски музеј у Пенсилваниј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Настала је крајем трећег миленијума п</a:t>
            </a:r>
            <a:r>
              <a:rPr b="1" lang="en-US" sz="1400" spc="-1" strike="noStrike">
                <a:solidFill>
                  <a:srgbClr val="9c3400"/>
                </a:solidFill>
                <a:latin typeface="Times New Roman"/>
              </a:rPr>
              <a:t>.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 н.</a:t>
            </a:r>
            <a:r>
              <a:rPr b="1" lang="en-US" sz="1400" spc="-1" strike="noStrike">
                <a:solidFill>
                  <a:srgbClr val="9c34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Садржи 15 рецепа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 овим најстаријим медицинским документим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писују се болести јетре, ока, респираторног система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розница и гонореја. Помињу се кокошије слепило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титис медиа, бубрежна калкулоза, шлог и шуг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јвећи број лекова у то време примењиваних био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иљног порекла. Коришћени су тимијан, слачица,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шљива, крушка, смоква, бор, врба, јела, бели лук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иљним материјама је додавано пиво, вино или уље. Од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инералних материја предност су имали натријум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лорид и калијум нитр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ада је омиљени начин примене лекова био облог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мелем), описани су скоро сви облици лекова осим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нјекција: за оралну употербу, микстуре, инхалациј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асти, супозиторије, клизме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762280" y="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c3400"/>
                </a:solidFill>
                <a:latin typeface="Times New Roman"/>
              </a:rPr>
              <a:t>Глинена таблица из Нипура </a:t>
            </a:r>
            <a:br>
              <a:rPr sz="2400"/>
            </a:br>
            <a:r>
              <a:rPr b="0" lang="sr-CS" sz="2000" spc="-1" strike="noStrike">
                <a:solidFill>
                  <a:srgbClr val="9c3400"/>
                </a:solidFill>
                <a:latin typeface="Times New Roman"/>
              </a:rPr>
              <a:t>(Универзитетски музеј у Пенсилваниј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валд Шмидеберг се сматра оснивачем модерн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фармакологије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uchheim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в студент, 1866. је докторира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(“Мерење хлороформа у крви”), а три године касније, п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uchheim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вом одласку из Дорпата, заузео његово место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ада је открио да мускарин изазива исте ефекте на срц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као и електрична стимулациј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вагу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72. постаје професор фармакологије у Стразбургу, гд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уз подршку немачке владе оснива чувени фармаколошк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институ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четна проучавања обухватила су у то време најпознати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лекове и отрове (мускарин, никотин, гликозид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дигиталиса, тешке метале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оком вишегодишњег проучавања мукополисахарида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мукопротеина детаљно је обрадио састав хијалуронск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киселине и њену везу са хондроитин сулфатом, колаген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и амилоидом. Објавио је преко 200 радо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ee2e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Oswald Schmiedeberg 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(18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38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– 1921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ad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85. уводи уретан као хипнот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Његов уџбеник фармакологије прво је објављен 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ајпцигу (1883). У наредних 40 година изашло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8 издања. Превођен је више пута на енглеск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јез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оком 46 година његовог рада стразбуршк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школа је дала око 150 будућих професор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логије, који су оснивали фармаколошк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нституте широм Немачке и другде у свет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змеђу осталих његови ученици били с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acob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bel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rthur Robertson Cush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валд Шмидеберг је заслужан и за водећу улог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мачке фармацеутске индустрије све до Друг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ветског ра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ffe0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Oswald Schmiedeberg 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(18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38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– 1921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19. век су обележила и настојања научника да из сирових дрога изолују активне принципе у чистом облику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03. француски хемичар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C.L. Derosne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је из опијума изоловао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носкап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05. немачки фармацеут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F.W. Sert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ü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rner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 из опијума изоловао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морф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зу од 100 мг је тестирао на себи и своја три пријатеља – добили су тешко тровање опијумом. Горки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ели кристални алкалоид назвао је по Морфусу, грчком богу с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17.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Magendie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P.J. Pelletir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золују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емет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з ипекакуа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18. француски фармацеути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P.J. Pelletier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J. Caventou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золовали су стрихни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бруцин из биљк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nux vomic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а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1820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 из коре кининовца изоловали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кин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97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емичар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Arthur Heffter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је из мексичког кактуса (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Lophora williamsii)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оловао мескалин.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У 19. веку је изведен први експеримент на изолованом органу у воденом купатилу; извео га је </a:t>
            </a:r>
            <a:r>
              <a:rPr b="1" lang="sr-CS" sz="1400" spc="-1" strike="noStrike">
                <a:solidFill>
                  <a:srgbClr val="3333cc"/>
                </a:solidFill>
                <a:latin typeface="Times New Roman"/>
              </a:rPr>
              <a:t>Хенрик Магнус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на препарату танког цре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1849. немачки анатом </a:t>
            </a:r>
            <a:r>
              <a:rPr b="1" lang="sr-CS" sz="1400" spc="-1" strike="noStrike">
                <a:solidFill>
                  <a:srgbClr val="3333cc"/>
                </a:solidFill>
                <a:latin typeface="Times New Roman"/>
              </a:rPr>
              <a:t>Арнолд Бертхолд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трансплантирао је ткиво тестиса кастрираном петлу и показао да је оно одговорно за раст кресте. Сличне технике користиће се у 20. веку за изолацију и испитивање дејства мушких полних хормо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1897. </a:t>
            </a:r>
            <a:r>
              <a:rPr b="1" lang="sr-CS" sz="1400" spc="-1" strike="noStrike">
                <a:solidFill>
                  <a:srgbClr val="3333cc"/>
                </a:solidFill>
                <a:latin typeface="Times New Roman"/>
              </a:rPr>
              <a:t>Феликс Хофман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је синтетисао ацетилсалицилну киселину. Две године касније је регистрован аспирин. Механизам дејства ће му открити Џон Веин, 1971. године (Нобелова награда за медицину 19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fedee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9.  ВЕК</a:t>
            </a:r>
            <a:br>
              <a:rPr sz="2800"/>
            </a:br>
            <a:br>
              <a:rPr sz="14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азвој фармакологије у 20. веку је импресиван (преко 20 научника је за своја открића из области фармакологије награђено Нобеловом наградом). Откривени су многи важни лекови, неуротрансмитери, рецептори, секундарни гласници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03. немачки хемичар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Е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mil Fischer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је од барбитурне киселине синтетисао први барбитурат, барбитон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Veronal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1910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Paul Ehrlich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проналази салварсан, лек против сифилиса у раном стадијум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35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Gerhard Domagk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ткрива пронтозил (сулфонамид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40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H. Florey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E. Chain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захваљујући открићу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А. Флеминг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з 1928, синтетишу пеницил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43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Selman Waksman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ткрива стрептомиц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1982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J.R. Vane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S. Bergstrom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B. Samuelsson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добили су Нобелову награду за откриће простагланд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88.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дељена Нобелова награда за откриће важних принципа у терапији лековима 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Gertrudi Elion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Georgu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Hitchingsu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6-меркаптопурин, азатиоприн, алопуринол, пириметамин, триметоприм, ацикловир), као и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Sir James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Blacku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адренергички бета блокатори - пропранолол и блокатори хистаминских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ецептора -  циметидин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94.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Алфред Г. Гилма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Мартин Родбел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поделиће Нобелову награду за откриће Г-протеина и њихове улоге у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еносу сигнала у ћелија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л Ерлих, немачки бактериолог, још као студент је развио нове технике бојењ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кива. Када је приметио да анилинске боје уништавају бактерије, испитивао им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 дејство на инфицираним експерименталним животињама (1891. метиленск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лаво на маларичној заморчади,  1904. трипанско црвено код мишев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ражених трипанозомијазом дали су добре резултате). Тако је започела ер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нтиинфективних лекова (израз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хемотерапиј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потиче од Ерлиха, и првобитно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значавао способност неких хем. материја (“магични метак”)  да уништ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аразите, без оштећења ћелија домаћина; исто значи и термин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елективн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токсичност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вој научни рад заснивао је на идеји да хемијска структура неке супстанц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дређује њено фармаколошко дејство, односно афинитет за одређене ћелиј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азвио је “теорију бочних  ланаца”, претпостављајући да ћелије имају бројн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“бочне ланце” (рецепторе) који им омогућавају да вежу и унесу хранљив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атерије из телесних течности, али да и бактеријски токсини делују преко њих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штећујући ћелије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оком инфекције тело синтетише бројне “бочне ланце”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антитела) који реагују са специфичним бактеријским токсином, спречавајући г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 допре до ћелија домаћина (Нобелова награда за рад у области имунологиј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0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1400"/>
            </a:b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Paul Ehrlich (1854 – 19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78. је описао велике ћелије са базофилним гранулама и назвао их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“mast cells”. 1879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ткрио еозинофиле у крв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Његов рад у области морфологије, физиологије и патологије крвних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ћелија знатан је допринос развоју хематологиј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водећи бројне експерименте, како би створио високоделотворн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ифтерични антитоксин и развио методе његове стандардизације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ставио је основе имунизациј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ако је у то време откривена бледа спирохета, узрочник сифилиса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рлих је одлучио да нађе лек против ње. Међу материјама раниј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естираним, у друге сврхе, била је и једна, 606. по реду, једињењ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рсена, која је на сифилисом зараженим зечевима дала одличн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езултате. Тек када је извео на стотине успешних експеримената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рлих је обелоданио откриће, назвавши га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salvarsan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(1910)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Neosalvarsan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е појавио две године касније; био је најефикаснији лек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отив сифилиса све до појаве пеницил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Ерлихово начело за успешно истраживање: стрпљење, способност, срећа и новац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1400"/>
            </a:b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Paul Ehrlich (1854 – 19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Хенри Деил, енглески физолог, 1906. је пронашао д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кстракт ергота има симпатолитичко дејство, а 1911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ткрива хистамин 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анималним ткивима. Проучавајућ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његова дејства, долази до закључка да је одговоран з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дређене алергијске и анафилактичке реакциј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914. изолује ацетилхолин. Открио је да се ослобађа из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рвних завршетака парасимпатикуса, тј. његов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уротрансмитерску улогу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во откриће ће му 1936. донети Нобелову награду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921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. N. Langlay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бјављује “Аутономни нервни систем” (први уводи тај термин да означи део нервног система одговорног за невољну и несвесну функцију унутрашњих органа). Од њега потичу и термини парасимпатички и ентерички нервни систем. Основао је и уређивао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ournal of Physi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</a:t>
            </a:r>
            <a:br>
              <a:rPr sz="2800"/>
            </a:br>
            <a:br>
              <a:rPr sz="14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4be0"/>
                </a:solidFill>
                <a:latin typeface="Times New Roman"/>
              </a:rPr>
              <a:t>Sir Henry Dale (1875-1968) </a:t>
            </a:r>
            <a:r>
              <a:rPr b="1" lang="sr-CS" sz="2400" spc="-1" strike="noStrike">
                <a:solidFill>
                  <a:srgbClr val="004be0"/>
                </a:solidFill>
                <a:latin typeface="Times New Roman"/>
              </a:rPr>
              <a:t>и </a:t>
            </a:r>
            <a:r>
              <a:rPr b="1" lang="sr-Latn-CS" sz="2400" spc="-1" strike="noStrike">
                <a:solidFill>
                  <a:srgbClr val="004be0"/>
                </a:solidFill>
                <a:latin typeface="Times New Roman"/>
              </a:rPr>
              <a:t>Johannis Langley (1852-1925)</a:t>
            </a:r>
            <a:r>
              <a:rPr b="1" lang="sr-CS" sz="2400" spc="-1" strike="noStrike">
                <a:solidFill>
                  <a:srgbClr val="004be0"/>
                </a:solidFill>
                <a:latin typeface="Times New Roman"/>
              </a:rPr>
              <a:t>, пионири фармакологије у Енглеској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емачки лекар, поделио са Хенријем Деилом Нобелову награду з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у (1936) за открића у области неуротрансмисије. Његов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зив за ацетилхолин ј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vagusstoff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материја која потиче од вагуса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21. године, у Грацу, сањао је експеримент који ће му донет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лаву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оћ уочи Ускрса сам се пробудио, укључио светло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правио кратке белешке на неком папиру. Наставио сам да спавам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ко 6 ујутро сетио сам се да сам забележио нешто важно, али с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елешке биле толико нечитке да нисам могао да их прочитам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ледеће ноћи, у три сата, идеја ми се вратила. То је био експеримент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оји би потврдио или оповргао моју хипотезу о хемијској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рансмисији коју сам поставио пре 17 година. Скочио сам и отиша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лабораторију. Извео сам једноставан експеримент, експеримент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оји сам уснио, на срцу жабе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2800"/>
            </a:br>
            <a:r>
              <a:rPr b="1" lang="sr-CS" sz="2400" spc="-1" strike="noStrike">
                <a:solidFill>
                  <a:srgbClr val="3333cc"/>
                </a:solidFill>
                <a:latin typeface="Times New Roman"/>
              </a:rPr>
              <a:t>О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tto Loewi (1873 – 19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страживања П. Ерлиха послужила су као основ за развој нових лекова из боја. Током 20-их година истраживачи у Бајеровим лабораторијама синтетисали су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нтималарике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памакин (претечу примакина), мепакрин и резохин (крајем Другог светског рата синтетисан је и у Америци, под називом хлорокин). Почев од 17. века, када је кининовац у Европу донет из Јужне Америке, до 1930. маларија је лечена само кинин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Gerhard Domagk (1895 – 19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емачки бактериолог и патолог, инспирисан Ерлиховим радом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естира новооткривене боје и њихова дејства на микроорганизме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32. је објавио откриће да црвена боја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prontosil rubrum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штит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ишеве и зечеве од леталних доза стафилокока и хемолитичког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трептокока (за то откриће добио је Нобелову награду 1939, али м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итлер, увређен због доделе ове награде 1935. антинацисти, ни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зволио да је прими; чак је нареди да га гестапо затвори)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онтозил је био дериват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улфонамид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Лек ће у употребу ући од 1935 (после клиничког тестирања н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уманим стрептококним инфекцијама). Интересантно је да га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Domagk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именио одмах по откривању, на својој седмогодишњој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ћери (тешко оболелој од стрептококнеинфекције) и постига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дличне резултате. Ипак, о томе није писао, чекајући потврд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линичар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нтибиотици су пронађени пре сулфонамида, само 10 година нико није био заинтересован за то открић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3333cc"/>
                </a:solidFill>
                <a:latin typeface="Times New Roman"/>
              </a:rPr>
              <a:t>Луј Пастер (1822 – 18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ош је Луј Пастер, средином 19. века, приметио антагонизам између антракса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ругих бактерија, и претпоставио да је та појава значајна за медицин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3333cc"/>
                </a:solidFill>
                <a:latin typeface="Times New Roman"/>
              </a:rPr>
              <a:t>Александар Флеминг (1881 – 19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28. шкотски бактериолог, Александар Флеминг, оставио је своју лабораториј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и болниц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St. Mary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Лондон) у нереду, и отишао на годишњи одмор. Када с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вратио, затекао је плесан у непокривеним петри-шољама, засејаним стафилокок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трпаним у лавабоу. Ново је било то што је између бактеријске културе и плав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елене плесни био празан простор. Флеминг је схватио да је нешто из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Penicilliu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notatum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уништило стафилококе. Плесан је гајио на хлебу, филтрирао и тај филтр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звао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пеницил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 Описао га је 1929. у чланку “Антибактеријско деловање култу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еницилијума” као антисептик, делотворнији од фенола, безопасан за жива тки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Понекад се нешто и случајно открије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5d6465"/>
                </a:solidFill>
                <a:latin typeface="Times New Roman"/>
              </a:rPr>
              <a:t>Глинена таблица из библиотеке асиријског краља 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5d6465"/>
                </a:solidFill>
                <a:latin typeface="Times New Roman"/>
              </a:rPr>
              <a:t>Асурбанипала у Ниниви (7. век п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.</a:t>
            </a:r>
            <a:r>
              <a:rPr b="1" lang="sr-CS" sz="1600" spc="-1" strike="noStrike">
                <a:solidFill>
                  <a:srgbClr val="5d6465"/>
                </a:solidFill>
                <a:latin typeface="Times New Roman"/>
              </a:rPr>
              <a:t> н.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5d6465"/>
                </a:solidFill>
                <a:latin typeface="Times New Roman"/>
              </a:rPr>
              <a:t>е.)</a:t>
            </a:r>
            <a:br>
              <a:rPr sz="1600"/>
            </a:b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5d6465"/>
                </a:solidFill>
                <a:latin typeface="Times New Roman"/>
              </a:rPr>
              <a:t>(Британски музеј у Лондон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овој библотеци налазила се и најстариј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“фармакопеја” са око 120 лекова минералн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рекла и 250 лековитих материја биљн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рекла, међу којима су и рицинус, нана, шафран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опља, опијум, бели лук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РЕВНЕ ЦИВИЛИЗАЦИЈЕ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5d6465"/>
                </a:solidFill>
                <a:latin typeface="Times New Roman"/>
              </a:rPr>
              <a:t>АСИР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39. године на Оксфорду, 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Howard Florey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патолог из Аустралије, почињ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нтезивно да истражује Флемингову плесан. Главни сарадник био му ј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Ernst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Chain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немачки хемичар, који је у Енглеску дошао бежећи од нациста. Пројекат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 финансирала Рокфелерова фондациј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ролеће 1940. из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Penicilliuma notatum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су ектраховали први узорак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еницилина, који је био милион пута јачи од Флеминговог филтрата. Н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кспериментима на мишевима потврдили су високу делотворност и ниск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оксичност пеницил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Howard Florey (1898 – 196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лабораторијама Оксфорда произведено је довољно пеницилина за мало клинич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спитивање; тако је 1941. постало јасно колико је драгоцен. Због ратних услова ниј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е могао производити у Британији и покренута је производња у САД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!945. Флеминг, Флореи и Чеин добили су Нобелову награду за откриће пеницил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Ernst Chain (1906 – 19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еницилин није деловао на изазиваче туберкулозе.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Selman Waksman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уск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врејин (емигрирао у САД), микробиолог, упорно је тражио “пријатељске”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икроорганизме, који би били делотворни. Заједно са својим студентима, н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ниверзитету у Њу Џерсију, испитао је више од 10 000 култура, пореклом из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емљ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43. његов студент, Алберт Шац, из земље узете са добро ђубрене оранице и из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рла оболелих пилића, изоловао је бактерију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Streptomyces griseus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нтибиотик из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ње изолован био је делотворан против грам-негативних бацила и изазивач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уберкулозе. Добио је име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трептомиц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мају следеће године, лекари са Мајо клинике у Рочестеру, први пут с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именили нови лек. Младој болесници већ је било одстрањено једно плућн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рило, а друго начето туберкулозом. Стрептомицин јој је спасао живот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52. је његовом проналазачу додељена Нобелова награ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53.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Waksman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води термин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нтибиотици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: “...материје које стварај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икроорганизми и које могу успорити раст или уништити друге микроорганизм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у великим разблажењима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</a:t>
            </a:r>
            <a:br>
              <a:rPr sz="2800"/>
            </a:br>
            <a:br>
              <a:rPr sz="1400"/>
            </a:b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Selman Waksman (1888 – 1973)</a:t>
            </a:r>
            <a:r>
              <a:rPr b="1" lang="sr-C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ff9d"/>
              </a:gs>
              <a:gs pos="100000">
                <a:srgbClr val="ffe57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а зидовима мале просторије у задњем делу храма (тзв. Фестивалске дворане) уклесане су слике биљака и животиња донесених из Сирије, после ратних похода.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39076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e885"/>
              </a:gs>
              <a:gs pos="100000">
                <a:srgbClr val="ffffa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“</a:t>
            </a: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Ботаничка башта” у храму Тутмеса </a:t>
            </a:r>
            <a:r>
              <a:rPr b="1" lang="en-US" sz="2400" spc="-1" strike="noStrike">
                <a:solidFill>
                  <a:srgbClr val="767300"/>
                </a:solidFill>
                <a:latin typeface="Times New Roman"/>
              </a:rPr>
              <a:t>III</a:t>
            </a: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 у Карнаку</a:t>
            </a:r>
            <a:br>
              <a:rPr sz="2400"/>
            </a:b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767300"/>
                </a:solidFill>
                <a:latin typeface="Times New Roman"/>
              </a:rPr>
              <a:t>(16. век п. н. е., Египа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9f"/>
              </a:gs>
              <a:gs pos="100000">
                <a:srgbClr val="ffeb9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Амерички трговац антиквитетима, Едвин Смит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62. год. у Луксору од Мустафа аге купу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штећени папирус. Два месеца касније купује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ругу ролну, знајући да се не ради о оригиналу,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паја их. 1906. год. његова ћерка папирус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клања Друштву историчара Њујорк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начај овог медицинског документа открио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Џејмс Брестед, директор Института з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ријенталистику чикашког универзитета, када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9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године превео хијероглифе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 њему, овај папирус је копија древн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нускрипта – оригиналног текста (3000 – 2500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од. п. н.е.) и коментара у виду 69 бележака н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ргинама, написаних много касније (17. век п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. е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eb95"/>
              </a:gs>
              <a:gs pos="100000">
                <a:srgbClr val="ffffa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Едвин Смитов папирус, хијероглифи</a:t>
            </a:r>
            <a:br>
              <a:rPr sz="2400"/>
            </a:b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Медицинска академија у Њујорк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ab"/>
              </a:gs>
              <a:gs pos="100000">
                <a:srgbClr val="ffe4a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двин Смитов папирус је дуг око 5 метар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њему је описано 48 хируршких случајев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повреде главе, врата, рамена, торакса). Ос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линичке слике, код сваког од њих описан је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глед, дијагноза и терапија. Рационалн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хируршке интервенције су много заступљеније од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гиј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држи и најстарији опис карцинома (мушке дојке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e885"/>
              </a:gs>
              <a:gs pos="100000">
                <a:srgbClr val="ffffa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Едвин Смитов папирус</a:t>
            </a:r>
            <a:br>
              <a:rPr sz="2400"/>
            </a:b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Медицинска академија у Њујорк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ab"/>
              </a:gs>
              <a:gs pos="100000">
                <a:srgbClr val="ffec9d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берсов папирус је пореклом из Тебе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стао је средином 16. века п. н.е. Дуг је око 20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тара и широк 30 ц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 њега је 1862. купио у Луксору Едвин Смит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ечено је да је нађен између ногу мумије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јвероватније у гробници лека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ме је добио по Џорџу Еберсу, немачк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гиптологу и писцу, који га је откупио 1873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оди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оштећен, сматра се најважнијим од древн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ицинских докумената. На 110 страна садрж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877 рецепата и помиње око 700 лековит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упстанција. Међу њима су рицинус, мирођиј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ена, тимијан, кана, смрека, алоја, канабис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ијум, коријандер, ким, бели лук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ffeb95"/>
              </a:gs>
              <a:gs pos="100000">
                <a:srgbClr val="ffffa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Еберсов папирус </a:t>
            </a:r>
            <a:br>
              <a:rPr sz="2400"/>
            </a:b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Универзитетски музеј у Лајпциг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2:03:40Z</dcterms:created>
  <dc:creator>PAKOM</dc:creator>
  <dc:description/>
  <dc:language>en-US</dc:language>
  <cp:lastModifiedBy>Marina Kostic</cp:lastModifiedBy>
  <dcterms:modified xsi:type="dcterms:W3CDTF">2023-08-29T10:35:32Z</dcterms:modified>
  <cp:revision>138</cp:revision>
  <dc:subject/>
  <dc:title>PowerPoint Presentation</dc:title>
</cp:coreProperties>
</file>